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A50E-5693-4FB0-ABF3-9B00E76D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0F5F-87B1-4215-9BE9-85D7FAA2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42BF-1A97-4012-BE9B-639695FFC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30B8-7188-42AB-ABB0-58343DE45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F918-0C8E-4F97-846C-C2464C95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C12B-33EC-47A8-AC6C-F209ED9A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AFA3-C6B8-4411-A354-FB92C952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BD85-0BFE-49EC-8862-9DD16AAA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DDC2-17A4-4395-B17D-274DAC98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8F2F-A544-416D-A044-6CE07AD8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D0D0-28E3-49B4-9793-8FC36DB3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8CE7-FBF3-4FF5-9155-3DC914B4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174B-5A18-4988-B024-07C921723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4.3:  Korematsu v. United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endment 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person shall be held to answer for a capital, or otherwise infamous crime, unless on a presentment or indictment of a Grand Jury, except in cases arising in the land or naval forces, or in the Militia, when in actual service in time of War or public danger; …nor shall be compelled in any criminal case to be a witness against himself, nor be deprived of life, liberty, or property, without due process of law; nor shall private property be taken for public use without just compens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20:03:08Z</dcterms:created>
  <dc:creator>Ana</dc:creator>
  <dc:description/>
  <dc:language>en-US</dc:language>
  <cp:lastModifiedBy>School District U46</cp:lastModifiedBy>
  <dcterms:modified xsi:type="dcterms:W3CDTF">2012-02-14T20:56:13Z</dcterms:modified>
  <cp:revision>2</cp:revision>
  <dc:subject/>
  <dc:title>14.3:  Korematsu v. United States</dc:title>
</cp:coreProperties>
</file>